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C9F-A2F5-47DB-9AE2-A2C31393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7AEB-FFA2-4965-821F-E466AB6F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A1C-F51F-4BE7-B13D-C5E966E84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F23B-CD07-41E7-9F8B-6558BE84E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770-2E2A-4A94-8495-EFBFC900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F9F8-F920-4EA5-875A-016C568F9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FBC7-47EC-4B5C-8C4B-65BD4120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BFDC-776F-43B8-806E-E1A5F934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6B79-7133-44E0-AEE6-C8457599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563-4EF3-4805-9634-03B71EE0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58B-9214-4B23-A720-E350E4C1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7166-F4F7-438B-AA7B-0EB7447A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108A-1600-420D-A8C2-73A031C3F7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55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63852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y is the 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moon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levant to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our daily lives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8769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How can we find out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05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did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et ther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far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way is it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change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the way we feel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sun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Earth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Did man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really go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to the moon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Why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did the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astronauts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go there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stay in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one plac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How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long have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people studied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the moon 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moon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changes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ha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ould i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be like if the moon was gone forever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Garamond"/>
              </a:rPr>
              <a:t>To find answers to what we ar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Garamond"/>
              </a:rPr>
              <a:t>WONDERING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Garamond"/>
              </a:rPr>
              <a:t>about,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cc33"/>
                </a:solidFill>
                <a:latin typeface="Garamond"/>
              </a:rPr>
              <a:t>we will: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Make personal observ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of the moon in the sky each night for a month.</a:t>
            </a:r>
            <a:r>
              <a:rPr b="0" lang="en-US" sz="3600" spc="-1" strike="noStrike">
                <a:solidFill>
                  <a:srgbClr val="33cc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9ea8"/>
                </a:solidFill>
                <a:latin typeface="Garamond"/>
              </a:rPr>
              <a:t>Draw diagrams of 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9ea8"/>
                </a:solidFill>
                <a:latin typeface="Garamond"/>
              </a:rPr>
              <a:t>the moon moves acr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9ea8"/>
                </a:solidFill>
                <a:latin typeface="Garamond"/>
              </a:rPr>
              <a:t>the sky at night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cc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Garamond"/>
              </a:rPr>
              <a:t>Discuss our entries with one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Internet educational websites to help 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sign a multimedia presentation depicting th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9ea8"/>
                </a:solidFill>
                <a:latin typeface="Garamond"/>
              </a:rPr>
              <a:t>moon’s revolu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9ea8"/>
                </a:solidFill>
                <a:latin typeface="Garamond"/>
              </a:rPr>
              <a:t>around the Eart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9ea8"/>
                </a:solidFill>
                <a:latin typeface="Garamond"/>
              </a:rPr>
              <a:t>the Earth’s ro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9ea8"/>
                </a:solidFill>
                <a:latin typeface="Garamond"/>
              </a:rPr>
              <a:t>the Earth’s revolution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9ea8"/>
                </a:solidFill>
                <a:latin typeface="Garamond"/>
              </a:rPr>
              <a:t>around the su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Garamond"/>
              </a:rPr>
              <a:t>*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Relative sizes will be shown to sca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… </a:t>
            </a:r>
            <a:r>
              <a:rPr b="0" lang="en-US" sz="3600" spc="-1" strike="noStrike">
                <a:solidFill>
                  <a:srgbClr val="cc3399"/>
                </a:solidFill>
                <a:latin typeface="Garamond"/>
              </a:rPr>
              <a:t>Do research on the Internet to find out how the moon affect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33"/>
                </a:solidFill>
                <a:latin typeface="Garamond"/>
              </a:rPr>
              <a:t>The Earth’s tid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9ea8"/>
                </a:solidFill>
                <a:latin typeface="Garamond"/>
              </a:rPr>
              <a:t>Animal lif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Garamond"/>
              </a:rPr>
              <a:t>Pla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uman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iscover th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historical findings of four early  astronomer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Aristotle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Ptolem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Copernicus, an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Galile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alyz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the differences in what they taugh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Create an BLOG survey/pol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Garamond"/>
              </a:rPr>
              <a:t>for opinions abou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9ea8"/>
                </a:solidFill>
                <a:latin typeface="Garamond"/>
              </a:rPr>
              <a:t>the astronauts’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9ea8"/>
                </a:solidFill>
                <a:latin typeface="Garamond"/>
              </a:rPr>
              <a:t>moonwalk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Garamond"/>
              </a:rPr>
              <a:t>and on past, present, and futur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99"/>
                </a:solidFill>
                <a:latin typeface="Garamond"/>
              </a:rPr>
              <a:t>space explo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Regularly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pos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9ea8"/>
                </a:solidFill>
                <a:latin typeface="Garamond"/>
              </a:rPr>
              <a:t>our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9ea8"/>
                </a:solidFill>
                <a:latin typeface="Garamond"/>
              </a:rPr>
              <a:t>multimedi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9ea8"/>
                </a:solidFill>
                <a:latin typeface="Garamond"/>
              </a:rPr>
              <a:t>presentations</a:t>
            </a:r>
            <a:r>
              <a:rPr b="1" lang="en-US" sz="3600" spc="-1" strike="noStrike">
                <a:solidFill>
                  <a:srgbClr val="33cc33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our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Garamond"/>
              </a:rPr>
              <a:t>clas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Garamond"/>
              </a:rPr>
              <a:t>Wiki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 full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moon is brigh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is no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 plane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stronaut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landed on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oes around the Earth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nimal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l at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      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at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made of 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 Peg Norman</cp:lastModifiedBy>
  <dcterms:modified xsi:type="dcterms:W3CDTF">2009-03-29T22:05:27Z</dcterms:modified>
  <cp:revision>28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